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06D-B502-45A7-A7EB-610CEB0D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0B5-F4D4-4733-B958-E6ED1375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E0A-0F93-48BF-961B-487F6046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186-24A5-4EBF-B3B3-041E1C16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1A0-A156-40B5-A83F-0D25B27B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EE3-0304-4A32-A19A-92CCFEB5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D45-240A-4099-896F-3D02F2E0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D81-AC7D-45BD-A3A6-0DB0568E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B20-5C1D-4AE1-9F53-FDC5AB71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9D5-E795-458D-BF63-C3FA6D48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57E-A6E7-4006-9601-D4BD13BB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F1C-784C-4943-BC2C-AA27C81A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38480" y="0"/>
            <a:ext cx="449604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lco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Mania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63376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1333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9 years 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4120" y="53352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: When Columbus sail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erica, Luther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selling Coppert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working in the copper 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making Duracell copper top batteries in his ga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as one of Elliott Ness’s “coppers” in the 192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0160" y="53352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: Luther’s father made his living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) working in the copper 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20160" y="53352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: Luther’s father made his living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he liked the clothes monks got to w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he thought it would be a cool way to meet gir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he wanted to play in a band called the Monk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he was almost hit by lightning in a storm and made a promise that if he was spared he would become a mo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19440" y="533520"/>
            <a:ext cx="616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: Luther decided to become a mo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he was almost hit by lightning in a storm and made a promise that if he was spared he would become a mo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19440" y="533520"/>
            <a:ext cx="616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: Luther decided to become a mo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St. An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 a St. Bernar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St. Croix Fa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St. Polk Burnett Electric C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20880" y="533520"/>
            <a:ext cx="62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: When Luther was nearly struck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ghtning he prayed for help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St. An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20880" y="533520"/>
            <a:ext cx="62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: When Luther was nearly struck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ghtning he prayed for help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52480" y="21337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thrilled beyond words and told him how proud they were of h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unhappy that he would be wasting his life as a mo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excited about getting free food at church potlu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mad that he wouldn’t be a lawy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sue the copper ba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0520" y="533520"/>
            <a:ext cx="6557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: When Luther told his parents that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s going to enter the monestar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y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) unhappy that he would be wasting his life as a mo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19080" y="533520"/>
            <a:ext cx="686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: When Luther told his parents that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s going to become a monk, they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52480" y="2209320"/>
            <a:ext cx="69343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a chance to win a blue ribbon at the county fair for her lutefisk p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the opportunity to try out for American Id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the Lincoln Towncar her son had promised to buy for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grand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20520" y="533520"/>
            <a:ext cx="627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: Margaret Luther was disappoi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r son was going into the monas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cause it meant she wouldn’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aise your hand when you think you know an answ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Winners will receive an all exp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id trip to Disney Worl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ee Intern Linda for detai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228600"/>
            <a:ext cx="784872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Mani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52480" y="2209320"/>
            <a:ext cx="69343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grand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0520" y="533520"/>
            <a:ext cx="627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: Margaret Luther was disappoi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r son was going into the monas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cause it meant she wouldn’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a broken he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a broken rec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a broken water 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either pneumonia or gall stones - nobody knows for 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20880" y="533520"/>
            <a:ext cx="50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: Luther died in 1546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) either pneumonia or gall stones - nobody knows for 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20880" y="533520"/>
            <a:ext cx="50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: Luther died in 1546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8080" y="228600"/>
            <a:ext cx="7620120" cy="624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You are a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fficia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ther Scholar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1333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Eisleben, Germany in 148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the little brown church in the v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Osceola Medical Center in 148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during half-time of the Sup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23400" y="53352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: Martin Luther was born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) Eisleben, Germany in 148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3400" y="53352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: Martin Luther was born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Marshfield, Wiscons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Mansfeld, Ger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Manheim Steamro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Man, I don’t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30600" y="533520"/>
            <a:ext cx="65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: When Luther was 6 months old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s father moved the family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) Mansfeld, Ger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0600" y="533520"/>
            <a:ext cx="65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: When Luther was 6 months old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s father moved the family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girls volleyball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chocolate mou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copper 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soccer stad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22680" y="533520"/>
            <a:ext cx="60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: Mansfeld was a town best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) copper 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22680" y="533520"/>
            <a:ext cx="60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: Mansfeld was a town best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 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V="1">
            <a:off x="838080" y="1066320"/>
            <a:ext cx="0" cy="5791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9 years 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as old as the h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older than he should have be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) old enough to be a galley boy on the Santa M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33800" cy="135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4120" y="53352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: When Columbus sail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erica, Luther w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04:57:31Z</dcterms:created>
  <dc:creator>Jeffrey T. Funk</dc:creator>
  <dc:description/>
  <dc:language>en-US</dc:language>
  <cp:lastModifiedBy>Wayne C. Deloach</cp:lastModifiedBy>
  <cp:lastPrinted>2004-02-08T20:56:25Z</cp:lastPrinted>
  <dcterms:modified xsi:type="dcterms:W3CDTF">2006-04-13T19:42:42Z</dcterms:modified>
  <cp:revision>252</cp:revision>
  <dc:subject/>
  <dc:title>No Slide Title</dc:title>
</cp:coreProperties>
</file>